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2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40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9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41.png" ContentType="image/png"/>
  <Override PartName="/ppt/media/image4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35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4DED-4ECF-4B4D-B9CA-3B947BE96D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77C7-CF97-455C-AC59-E2F0A98DE9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C3DE-F5A6-4C40-8793-2D3F432CE8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6200" cy="4008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For digital TV there was implemented a relatively new solution – SLSplicer. It inserts ads block into a transport stream by SCTE35 mark without transcod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It saves a lot of CPU usage and allows to manage up to 30 digital SD-TV channels in one ser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6496-AB83-4716-A273-21A775D968D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390600" y="685800"/>
            <a:ext cx="6054480" cy="34066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4080" cy="40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Hardware Forward Splicer is a module for PROFNEXT case. One board can plice ADs for all programs into one multiplex. It download movies and schedules from specified FTP folder by SCTE-118 stand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3884760" y="8685360"/>
            <a:ext cx="29494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6E3E5A4A-8A6A-47E8-B9CA-D3ECC724A7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2160" y="685800"/>
            <a:ext cx="667368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838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0338-B37A-4AF4-9908-1B973DF719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038C-334B-416F-B586-384C8F8B0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BA4C-68F6-45AC-93F5-07BF40AA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D236-26EC-41A4-AE0D-8E643F2B6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7392-5090-48F1-B8F2-17D8AEF57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9C47-4BB8-40B2-A2E9-1DB88725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2CB1-38B4-4052-83B2-107714BC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8C40-3A2A-42B1-8221-0259D839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71B9-8E02-4720-9E3B-D39AD13B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9909-11D3-4601-8133-AF71877A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119C-DFA8-4742-9C1B-35C7E157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C414-74F9-4EEE-BA9B-6A19EB0C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FCB0-B2CD-4CB9-BD31-137C844D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2F7A-025B-4FAB-A59A-79E627A741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7" descr="SliderРазработкаForPresentation.png"/>
          <p:cNvPicPr/>
          <p:nvPr/>
        </p:nvPicPr>
        <p:blipFill>
          <a:blip r:embed="rId1"/>
          <a:srcRect l="0" t="9582" r="0" b="0"/>
          <a:stretch/>
        </p:blipFill>
        <p:spPr>
          <a:xfrm>
            <a:off x="826920" y="866880"/>
            <a:ext cx="4608720" cy="18493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9" name="Рисунок 8" descr="LOGO SL OK 2019NOVEMBER-01.png"/>
          <p:cNvPicPr/>
          <p:nvPr/>
        </p:nvPicPr>
        <p:blipFill>
          <a:blip r:embed="rId2"/>
          <a:stretch/>
        </p:blipFill>
        <p:spPr>
          <a:xfrm>
            <a:off x="6227640" y="987480"/>
            <a:ext cx="1708200" cy="165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2858760"/>
            <a:ext cx="82803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  <a:ea typeface="Roboto Condensed"/>
              </a:rPr>
              <a:t>Новости от компании СофтЛаб-НС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95280" y="3938760"/>
            <a:ext cx="6400800" cy="100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Игорь Таранце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руководитель отдела программных разработ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Air3 (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ово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71760"/>
            <a:ext cx="8075520" cy="25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бавлены предупреждения о заглушенных линиях звука и линиях звука с минимальной громкость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бавлена настройк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Не показывать ошибки выше строки исполнен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светка зеленым, если ожидание больш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екун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941400" y="3978360"/>
            <a:ext cx="463860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Air3 (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ово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71760"/>
            <a:ext cx="8075520" cy="56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пуск исполняемых .bat или .exe фай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1403280" y="2139840"/>
            <a:ext cx="3595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Air3 (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овое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71760"/>
            <a:ext cx="6851520" cy="56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тистика загруженности при воспроизведен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900000" y="2211480"/>
            <a:ext cx="3781440" cy="2376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7164360" y="1692360"/>
            <a:ext cx="1511280" cy="268200"/>
          </a:xfrm>
          <a:prstGeom prst="rect">
            <a:avLst/>
          </a:prstGeom>
          <a:ln w="0">
            <a:noFill/>
          </a:ln>
        </p:spPr>
      </p:pic>
      <p:sp>
        <p:nvSpPr>
          <p:cNvPr id="101" name="Овал 5"/>
          <p:cNvSpPr/>
          <p:nvPr/>
        </p:nvSpPr>
        <p:spPr>
          <a:xfrm>
            <a:off x="7823160" y="1692360"/>
            <a:ext cx="28728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6"/>
          <p:cNvSpPr/>
          <p:nvPr/>
        </p:nvSpPr>
        <p:spPr>
          <a:xfrm>
            <a:off x="5246280" y="3435480"/>
            <a:ext cx="24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последниe 24 ча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Прямая со стрелкой 8"/>
          <p:cNvCxnSpPr/>
          <p:nvPr/>
        </p:nvCxnSpPr>
        <p:spPr>
          <a:xfrm flipH="1">
            <a:off x="4716000" y="3650760"/>
            <a:ext cx="50400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TrimEdi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8000" y="1571760"/>
            <a:ext cx="403236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каз подробно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тистики скорост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ения и декодировани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кретного рол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4572000" y="1563840"/>
            <a:ext cx="3774960" cy="2860560"/>
          </a:xfrm>
          <a:prstGeom prst="rect">
            <a:avLst/>
          </a:prstGeom>
          <a:ln w="0">
            <a:noFill/>
          </a:ln>
        </p:spPr>
      </p:pic>
      <p:sp>
        <p:nvSpPr>
          <p:cNvPr id="107" name="Овал 4"/>
          <p:cNvSpPr/>
          <p:nvPr/>
        </p:nvSpPr>
        <p:spPr>
          <a:xfrm>
            <a:off x="5364000" y="4248000"/>
            <a:ext cx="792360" cy="14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MediaInfoServ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50920" y="1571760"/>
            <a:ext cx="547344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Открытие» роликов до того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они потребуются в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Air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кэширование информаци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5724360" y="1563840"/>
            <a:ext cx="282600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ит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71760"/>
            <a:ext cx="822960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бавлен новый титровальный элемент Web2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основе интернет-браузера Chrome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с поддержкой динамического обновления страницы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бавлен новый тип титровального элемента PowerPoint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показа презентаций в формате PPT и PPT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ддержка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71760"/>
            <a:ext cx="627552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говор с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l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3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FMPE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иблиотеки кодирован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кодировани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l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стирование в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l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Рисунок 4" descr="800px-Dolby-Digital.svg.png"/>
          <p:cNvPicPr/>
          <p:nvPr/>
        </p:nvPicPr>
        <p:blipFill>
          <a:blip r:embed="rId1"/>
          <a:stretch/>
        </p:blipFill>
        <p:spPr>
          <a:xfrm>
            <a:off x="6084720" y="2500200"/>
            <a:ext cx="2303640" cy="567000"/>
          </a:xfrm>
          <a:prstGeom prst="rect">
            <a:avLst/>
          </a:prstGeom>
          <a:ln w="0">
            <a:noFill/>
          </a:ln>
        </p:spPr>
      </p:pic>
      <p:grpSp>
        <p:nvGrpSpPr>
          <p:cNvPr id="116" name="Группа 9"/>
          <p:cNvGrpSpPr/>
          <p:nvPr/>
        </p:nvGrpSpPr>
        <p:grpSpPr>
          <a:xfrm>
            <a:off x="826920" y="2355840"/>
            <a:ext cx="720720" cy="287280"/>
            <a:chOff x="826920" y="2355840"/>
            <a:chExt cx="720720" cy="287280"/>
          </a:xfrm>
        </p:grpSpPr>
        <p:sp>
          <p:nvSpPr>
            <p:cNvPr id="117" name="Прямая соединительная линия 5"/>
            <p:cNvSpPr/>
            <p:nvPr/>
          </p:nvSpPr>
          <p:spPr>
            <a:xfrm flipV="1">
              <a:off x="826920" y="2355840"/>
              <a:ext cx="720720" cy="287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Прямая соединительная линия 8"/>
            <p:cNvSpPr/>
            <p:nvPr/>
          </p:nvSpPr>
          <p:spPr>
            <a:xfrm>
              <a:off x="826920" y="2355840"/>
              <a:ext cx="720720" cy="287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StreamCap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1571760"/>
            <a:ext cx="577044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льно улучшено качество записи для высоких разреш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держано сжатие в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https://www.softlab.tv/rus/forward/images/streamcapture5.gif"/>
          <p:cNvPicPr/>
          <p:nvPr/>
        </p:nvPicPr>
        <p:blipFill>
          <a:blip r:embed="rId1"/>
          <a:stretch/>
        </p:blipFill>
        <p:spPr>
          <a:xfrm>
            <a:off x="6372360" y="1708200"/>
            <a:ext cx="252072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ward4Sk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71760"/>
            <a:ext cx="822960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ем звонков из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yp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через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D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Рисунок 4" descr="1200px-Skype_logo_(2019–present).svg.png"/>
          <p:cNvPicPr/>
          <p:nvPr/>
        </p:nvPicPr>
        <p:blipFill>
          <a:blip r:embed="rId1"/>
          <a:stretch/>
        </p:blipFill>
        <p:spPr>
          <a:xfrm>
            <a:off x="1332000" y="2355840"/>
            <a:ext cx="792000" cy="798480"/>
          </a:xfrm>
          <a:prstGeom prst="rect">
            <a:avLst/>
          </a:prstGeom>
          <a:ln w="0">
            <a:noFill/>
          </a:ln>
        </p:spPr>
      </p:pic>
      <p:cxnSp>
        <p:nvCxnSpPr>
          <p:cNvPr id="125" name="Прямая со стрелкой 5"/>
          <p:cNvCxnSpPr/>
          <p:nvPr/>
        </p:nvCxnSpPr>
        <p:spPr>
          <a:xfrm>
            <a:off x="2340000" y="2715840"/>
            <a:ext cx="72000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26" name="Рисунок 8" descr="1200x630wa_1.png"/>
          <p:cNvPicPr/>
          <p:nvPr/>
        </p:nvPicPr>
        <p:blipFill>
          <a:blip r:embed="rId2"/>
          <a:srcRect l="32138" t="15315" r="32138" b="15315"/>
          <a:stretch/>
        </p:blipFill>
        <p:spPr>
          <a:xfrm>
            <a:off x="3276720" y="2355840"/>
            <a:ext cx="706320" cy="720720"/>
          </a:xfrm>
          <a:prstGeom prst="rect">
            <a:avLst/>
          </a:prstGeom>
          <a:ln w="0">
            <a:noFill/>
          </a:ln>
        </p:spPr>
      </p:pic>
      <p:cxnSp>
        <p:nvCxnSpPr>
          <p:cNvPr id="127" name="Прямая со стрелкой 9"/>
          <p:cNvCxnSpPr/>
          <p:nvPr/>
        </p:nvCxnSpPr>
        <p:spPr>
          <a:xfrm>
            <a:off x="4211640" y="2715840"/>
            <a:ext cx="72144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28" name="Рисунок 10" descr="krugl_706.png"/>
          <p:cNvPicPr/>
          <p:nvPr/>
        </p:nvPicPr>
        <p:blipFill>
          <a:blip r:embed="rId3"/>
          <a:stretch/>
        </p:blipFill>
        <p:spPr>
          <a:xfrm>
            <a:off x="5148360" y="2211480"/>
            <a:ext cx="936360" cy="93636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11" descr="Assignment.jpg"/>
          <p:cNvPicPr/>
          <p:nvPr/>
        </p:nvPicPr>
        <p:blipFill>
          <a:blip r:embed="rId4"/>
          <a:stretch/>
        </p:blipFill>
        <p:spPr>
          <a:xfrm>
            <a:off x="1908000" y="3363840"/>
            <a:ext cx="3672000" cy="13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Plantronics Entera BNC — профессиональная телефонная гарнитура"/>
          <p:cNvPicPr/>
          <p:nvPr/>
        </p:nvPicPr>
        <p:blipFill>
          <a:blip r:embed="rId1"/>
          <a:stretch/>
        </p:blipFill>
        <p:spPr>
          <a:xfrm>
            <a:off x="3132000" y="194148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2"/>
          <a:srcRect l="0" t="25208" r="0" b="25208"/>
          <a:stretch/>
        </p:blipFill>
        <p:spPr>
          <a:xfrm>
            <a:off x="2556000" y="3308400"/>
            <a:ext cx="1949400" cy="9651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ward4Sk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3"/>
          <a:stretch/>
        </p:blipFill>
        <p:spPr>
          <a:xfrm>
            <a:off x="345960" y="1579680"/>
            <a:ext cx="3073680" cy="17287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5"/>
          <p:cNvSpPr/>
          <p:nvPr/>
        </p:nvSpPr>
        <p:spPr>
          <a:xfrm>
            <a:off x="829800" y="3525840"/>
            <a:ext cx="99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х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D-S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5214600" y="3525840"/>
            <a:ext cx="11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вых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D-S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4"/>
          <a:stretch/>
        </p:blipFill>
        <p:spPr>
          <a:xfrm>
            <a:off x="7812000" y="7002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"/>
          <p:cNvPicPr/>
          <p:nvPr/>
        </p:nvPicPr>
        <p:blipFill>
          <a:blip r:embed="rId5"/>
          <a:stretch/>
        </p:blipFill>
        <p:spPr>
          <a:xfrm>
            <a:off x="4427640" y="1579680"/>
            <a:ext cx="3092400" cy="1730160"/>
          </a:xfrm>
          <a:prstGeom prst="rect">
            <a:avLst/>
          </a:prstGeom>
          <a:ln w="0">
            <a:noFill/>
          </a:ln>
        </p:spPr>
      </p:pic>
      <p:sp>
        <p:nvSpPr>
          <p:cNvPr id="138" name="Стрелка вправо 12"/>
          <p:cNvSpPr/>
          <p:nvPr/>
        </p:nvSpPr>
        <p:spPr>
          <a:xfrm>
            <a:off x="1971720" y="3741840"/>
            <a:ext cx="503280" cy="21564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трелка вправо 13"/>
          <p:cNvSpPr/>
          <p:nvPr/>
        </p:nvSpPr>
        <p:spPr>
          <a:xfrm>
            <a:off x="4562640" y="3741840"/>
            <a:ext cx="504720" cy="215640"/>
          </a:xfrm>
          <a:prstGeom prst="rightArrow">
            <a:avLst>
              <a:gd name="adj1" fmla="val 50000"/>
              <a:gd name="adj2" fmla="val 5016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Группа 37"/>
          <p:cNvGrpSpPr/>
          <p:nvPr/>
        </p:nvGrpSpPr>
        <p:grpSpPr>
          <a:xfrm>
            <a:off x="2874960" y="4172040"/>
            <a:ext cx="1192320" cy="631800"/>
            <a:chOff x="2874960" y="4172040"/>
            <a:chExt cx="1192320" cy="631800"/>
          </a:xfrm>
        </p:grpSpPr>
        <p:sp>
          <p:nvSpPr>
            <p:cNvPr id="141" name="Облако 16"/>
            <p:cNvSpPr/>
            <p:nvPr/>
          </p:nvSpPr>
          <p:spPr>
            <a:xfrm>
              <a:off x="2874960" y="4172040"/>
              <a:ext cx="1192320" cy="631800"/>
            </a:xfrm>
            <a:custGeom>
              <a:avLst/>
              <a:gdLst>
                <a:gd name="textAreaLeft" fmla="*/ 164160 w 1192320"/>
                <a:gd name="textAreaRight" fmla="*/ 943200 w 1192320"/>
                <a:gd name="textAreaTop" fmla="*/ 95400 h 631800"/>
                <a:gd name="textAreaBottom" fmla="*/ 507240 h 631800"/>
              </a:gdLst>
              <a:ahLst/>
              <a:rect l="textAreaLeft" t="textAreaTop" r="textAreaRight" b="textAreaBottom"/>
              <a:pathLst>
                <a:path w="43200" h="43200">
                  <a:moveTo>
                    <a:pt x="3900" y="14370"/>
                  </a:moveTo>
                  <a:lnTo>
                    <a:pt x="3900" y="14370"/>
                  </a:lnTo>
                  <a:arcTo wR="6753" hR="9190" stAng="10170548" swAng="7427171"/>
                  <a:lnTo>
                    <a:pt x="14005" y="5202"/>
                  </a:lnTo>
                  <a:arcTo wR="5333" hR="7267" stAng="-8646226" swAng="5396752"/>
                  <a:lnTo>
                    <a:pt x="22456" y="3432"/>
                  </a:lnTo>
                  <a:arcTo wR="4365" hR="5945" stAng="-8748310" swAng="5983216"/>
                  <a:lnTo>
                    <a:pt x="29833" y="2481"/>
                  </a:lnTo>
                  <a:arcTo wR="4857" hR="6595" stAng="-7859247" swAng="7034694"/>
                  <a:lnTo>
                    <a:pt x="38318" y="5576"/>
                  </a:lnTo>
                  <a:arcTo wR="5333" hR="7273" stAng="-4722629" swAng="6541720"/>
                  <a:lnTo>
                    <a:pt x="41818" y="15460"/>
                  </a:lnTo>
                  <a:arcTo wR="6775" hR="9220" stAng="-2776007" swAng="7816113"/>
                  <a:lnTo>
                    <a:pt x="37404" y="30203"/>
                  </a:lnTo>
                  <a:arcTo wR="5785" hR="7867" stAng="37436" swAng="6841911"/>
                  <a:lnTo>
                    <a:pt x="28556" y="36813"/>
                  </a:lnTo>
                  <a:arcTo wR="6752" hR="9215" stAng="1346980" swAng="6910786"/>
                  <a:lnTo>
                    <a:pt x="16480" y="39264"/>
                  </a:lnTo>
                  <a:arcTo wR="7720" hR="10543" stAng="3974661" swAng="4542738"/>
                  <a:lnTo>
                    <a:pt x="5804" y="35470"/>
                  </a:lnTo>
                  <a:arcTo wR="4360" hR="5918" stAng="5103633" swAng="8804007"/>
                  <a:lnTo>
                    <a:pt x="2113" y="25548"/>
                  </a:lnTo>
                  <a:arcTo wR="4345" hR="5945" stAng="6790459" swAng="9150775"/>
                  <a:close/>
                </a:path>
                <a:path fill="none" w="43200" h="43200">
                  <a:moveTo>
                    <a:pt x="4693" y="26177"/>
                  </a:moveTo>
                  <a:lnTo>
                    <a:pt x="4693" y="26177"/>
                  </a:lnTo>
                  <a:arcTo wR="4345" hR="5945" stAng="5204745" swAng="1585714"/>
                  <a:moveTo>
                    <a:pt x="6928" y="34899"/>
                  </a:moveTo>
                  <a:lnTo>
                    <a:pt x="6928" y="34899"/>
                  </a:lnTo>
                  <a:arcTo wR="4360" hR="5918" stAng="4416323" swAng="686679"/>
                  <a:moveTo>
                    <a:pt x="16478" y="39090"/>
                  </a:moveTo>
                  <a:lnTo>
                    <a:pt x="16478" y="39090"/>
                  </a:lnTo>
                  <a:arcTo wR="6752" hR="9215" stAng="8257461" swAng="844950"/>
                  <a:moveTo>
                    <a:pt x="28827" y="34751"/>
                  </a:moveTo>
                  <a:lnTo>
                    <a:pt x="28827" y="34751"/>
                  </a:lnTo>
                  <a:arcTo wR="6752" hR="9215" stAng="387139" swAng="959841"/>
                  <a:moveTo>
                    <a:pt x="34129" y="22954"/>
                  </a:moveTo>
                  <a:lnTo>
                    <a:pt x="34129" y="22954"/>
                  </a:lnTo>
                  <a:arcTo wR="5785" hR="7867" stAng="-4217785" swAng="4255228"/>
                  <a:moveTo>
                    <a:pt x="41798" y="15354"/>
                  </a:moveTo>
                  <a:lnTo>
                    <a:pt x="41798" y="15354"/>
                  </a:lnTo>
                  <a:arcTo wR="5333" hR="7273" stAng="1819091" swAng="1665385"/>
                  <a:moveTo>
                    <a:pt x="38324" y="5426"/>
                  </a:moveTo>
                  <a:lnTo>
                    <a:pt x="38324" y="5426"/>
                  </a:lnTo>
                  <a:arcTo wR="4857" hR="6595" stAng="-824553" swAng="891799"/>
                  <a:moveTo>
                    <a:pt x="29078" y="3952"/>
                  </a:moveTo>
                  <a:lnTo>
                    <a:pt x="29078" y="3952"/>
                  </a:lnTo>
                  <a:arcTo wR="4857" hR="6595" stAng="-8950828" swAng="1091979"/>
                  <a:moveTo>
                    <a:pt x="22141" y="4720"/>
                  </a:moveTo>
                  <a:lnTo>
                    <a:pt x="22141" y="4720"/>
                  </a:lnTo>
                  <a:arcTo wR="4365" hR="5945" stAng="-9809519" swAng="1061209"/>
                  <a:moveTo>
                    <a:pt x="14000" y="5192"/>
                  </a:moveTo>
                  <a:lnTo>
                    <a:pt x="14000" y="5192"/>
                  </a:lnTo>
                  <a:arcTo wR="6753" hR="9190" stAng="-4002280" swAng="739132"/>
                  <a:moveTo>
                    <a:pt x="4127" y="15789"/>
                  </a:moveTo>
                  <a:lnTo>
                    <a:pt x="4127" y="15789"/>
                  </a:lnTo>
                  <a:arcTo wR="6753" hR="9190" stAng="9459493" swAng="711644"/>
                </a:path>
              </a:pathLst>
            </a:custGeom>
            <a:solidFill>
              <a:srgbClr val="43ff9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19"/>
            <p:cNvSpPr/>
            <p:nvPr/>
          </p:nvSpPr>
          <p:spPr>
            <a:xfrm>
              <a:off x="2994480" y="4251240"/>
              <a:ext cx="95328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Интерне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" name="Picture 2" descr=""/>
          <p:cNvPicPr/>
          <p:nvPr/>
        </p:nvPicPr>
        <p:blipFill>
          <a:blip r:embed="rId6"/>
          <a:stretch/>
        </p:blipFill>
        <p:spPr>
          <a:xfrm>
            <a:off x="3419640" y="3508200"/>
            <a:ext cx="43164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ортивные тит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5"/>
          <p:cNvSpPr/>
          <p:nvPr/>
        </p:nvSpPr>
        <p:spPr>
          <a:xfrm>
            <a:off x="5254920" y="3579840"/>
            <a:ext cx="22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ккей 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H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2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9"/>
          <p:cNvSpPr/>
          <p:nvPr/>
        </p:nvSpPr>
        <p:spPr>
          <a:xfrm>
            <a:off x="1618200" y="3579840"/>
            <a:ext cx="22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ккей 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H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2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859280" y="1779480"/>
            <a:ext cx="3048120" cy="17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1224000" y="1779480"/>
            <a:ext cx="3048120" cy="17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ward4Sk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71760"/>
            <a:ext cx="822960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 входящих звонка Skype выдаются на независимы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D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ыхо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ждому абоненту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kype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оказывается на выбор один из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D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ход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зависимые каналы звук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каждого Skype-соедин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втором мониторе отображаются все текущие звон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верхнизкая задерж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ункция запис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держка входов и выходов для NDI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есплатная техническая поддержка через портал для клиен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7812000" y="70020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RT (Secure Reliable Transpor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571760"/>
            <a:ext cx="519444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ставк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P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через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ход: сервер или клие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ход: только клие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ект ОТР: Москва 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се регио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ст: Новосибирск 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Тбилис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Содержимое 3" descr="SRT Alliance_logo_black.png"/>
          <p:cNvPicPr/>
          <p:nvPr/>
        </p:nvPicPr>
        <p:blipFill>
          <a:blip r:embed="rId1"/>
          <a:stretch/>
        </p:blipFill>
        <p:spPr>
          <a:xfrm>
            <a:off x="5796000" y="2427120"/>
            <a:ext cx="295272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орвард Сплайсе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8229600" cy="28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ставка рекламных блок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31640" indent="-323640"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ставка живого видео (протестировано с ВГТРК и РТРС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31640" indent="-323640"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бота с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I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ли с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P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потоками (для кабельщиков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31640" indent="-323640"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ерсия для МЧС (врезка картинки с живым звуком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31640" indent="0">
              <a:spcBef>
                <a:spcPts val="286"/>
              </a:spcBef>
              <a:spcAft>
                <a:spcPts val="28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31640" indent="-323640"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екламный сервер для поддержки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CTE-11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  <a:ea typeface="Roboto Condensed"/>
              </a:rPr>
              <a:t>Врезка в цифровом Т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658800" y="1571760"/>
            <a:ext cx="7826400" cy="3022560"/>
          </a:xfrm>
          <a:prstGeom prst="rect">
            <a:avLst/>
          </a:prstGeom>
          <a:ln w="0">
            <a:noFill/>
          </a:ln>
        </p:spPr>
      </p:pic>
      <p:sp>
        <p:nvSpPr>
          <p:cNvPr id="154" name="Скругленный прямоугольник 4"/>
          <p:cNvSpPr/>
          <p:nvPr/>
        </p:nvSpPr>
        <p:spPr>
          <a:xfrm>
            <a:off x="6516720" y="3003480"/>
            <a:ext cx="792000" cy="593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 Black"/>
              </a:rPr>
              <a:t>Forward Splic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  <a:ea typeface="Roboto Condensed"/>
              </a:rPr>
              <a:t>Сплайсинг в облак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571760"/>
            <a:ext cx="490680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резка локальной рекла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резка локализованных переда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резка сигналов МЧ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Группа 32"/>
          <p:cNvGrpSpPr/>
          <p:nvPr/>
        </p:nvGrpSpPr>
        <p:grpSpPr>
          <a:xfrm>
            <a:off x="5580000" y="1635120"/>
            <a:ext cx="3169080" cy="2952720"/>
            <a:chOff x="5580000" y="1635120"/>
            <a:chExt cx="3169080" cy="2952720"/>
          </a:xfrm>
        </p:grpSpPr>
        <p:sp>
          <p:nvSpPr>
            <p:cNvPr id="158" name="Прямоугольник 16"/>
            <p:cNvSpPr/>
            <p:nvPr/>
          </p:nvSpPr>
          <p:spPr>
            <a:xfrm>
              <a:off x="6300000" y="1635120"/>
              <a:ext cx="1728360" cy="180036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2"/>
            <p:cNvSpPr/>
            <p:nvPr/>
          </p:nvSpPr>
          <p:spPr>
            <a:xfrm>
              <a:off x="6444000" y="2823480"/>
              <a:ext cx="1440360" cy="46800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Хранилище ролик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3"/>
            <p:cNvSpPr/>
            <p:nvPr/>
          </p:nvSpPr>
          <p:spPr>
            <a:xfrm>
              <a:off x="5580000" y="2208240"/>
              <a:ext cx="720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P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" name="AutoShape 4"/>
            <p:cNvCxnSpPr/>
            <p:nvPr/>
          </p:nvCxnSpPr>
          <p:spPr>
            <a:xfrm>
              <a:off x="7740720" y="2426760"/>
              <a:ext cx="10087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2" name="Text Box 6"/>
            <p:cNvSpPr/>
            <p:nvPr/>
          </p:nvSpPr>
          <p:spPr>
            <a:xfrm>
              <a:off x="6588000" y="2211120"/>
              <a:ext cx="1152360" cy="43200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плайсе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" name="AutoShape 8"/>
            <p:cNvCxnSpPr>
              <a:endCxn id="162" idx="1"/>
            </p:cNvCxnSpPr>
            <p:nvPr/>
          </p:nvCxnSpPr>
          <p:spPr>
            <a:xfrm>
              <a:off x="5652000" y="2426760"/>
              <a:ext cx="9367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4" name="Text Box 3"/>
            <p:cNvSpPr/>
            <p:nvPr/>
          </p:nvSpPr>
          <p:spPr>
            <a:xfrm>
              <a:off x="8028720" y="2208240"/>
              <a:ext cx="720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P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5" name="Прямая со стрелкой 13"/>
            <p:cNvCxnSpPr/>
            <p:nvPr/>
          </p:nvCxnSpPr>
          <p:spPr>
            <a:xfrm>
              <a:off x="7164000" y="2643480"/>
              <a:ext cx="1080" cy="18072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166" name="TextBox 17"/>
            <p:cNvSpPr/>
            <p:nvPr/>
          </p:nvSpPr>
          <p:spPr>
            <a:xfrm>
              <a:off x="6372000" y="1635120"/>
              <a:ext cx="1584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Виртуальный серве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3"/>
            <p:cNvSpPr/>
            <p:nvPr/>
          </p:nvSpPr>
          <p:spPr>
            <a:xfrm>
              <a:off x="7092360" y="3436560"/>
              <a:ext cx="93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TP/HTT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8" name="AutoShape 8"/>
            <p:cNvCxnSpPr/>
            <p:nvPr/>
          </p:nvCxnSpPr>
          <p:spPr>
            <a:xfrm flipV="1">
              <a:off x="7164000" y="3291480"/>
              <a:ext cx="1080" cy="576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69" name="Овал 31"/>
            <p:cNvSpPr/>
            <p:nvPr/>
          </p:nvSpPr>
          <p:spPr>
            <a:xfrm>
              <a:off x="6084000" y="3867840"/>
              <a:ext cx="2160720" cy="7200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Серве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CTE 118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  <a:ea typeface="Roboto Condensed"/>
              </a:rPr>
              <a:t>Сплайсинг в обла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1285920" y="1911240"/>
            <a:ext cx="65721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Рисунок 3" descr="Splicer-R1-2a.bmp"/>
          <p:cNvPicPr/>
          <p:nvPr/>
        </p:nvPicPr>
        <p:blipFill>
          <a:blip r:embed="rId1"/>
          <a:stretch/>
        </p:blipFill>
        <p:spPr>
          <a:xfrm>
            <a:off x="6012000" y="3543480"/>
            <a:ext cx="2665440" cy="76032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"/>
          <p:cNvSpPr/>
          <p:nvPr/>
        </p:nvSpPr>
        <p:spPr>
          <a:xfrm>
            <a:off x="777960" y="1382760"/>
            <a:ext cx="7908840" cy="29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3840" indent="-393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63720"/>
                <a:tab algn="l" pos="1878120"/>
                <a:tab algn="l" pos="2792520"/>
                <a:tab algn="l" pos="3706920"/>
                <a:tab algn="l" pos="4621320"/>
                <a:tab algn="l" pos="5535720"/>
                <a:tab algn="l" pos="6450120"/>
                <a:tab algn="l" pos="7364520"/>
                <a:tab algn="l" pos="8278920"/>
                <a:tab algn="l" pos="9193320"/>
                <a:tab algn="l" pos="10107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ardware solu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878120"/>
                <a:tab algn="l" pos="2792520"/>
                <a:tab algn="l" pos="3706920"/>
                <a:tab algn="l" pos="4621320"/>
                <a:tab algn="l" pos="5535720"/>
                <a:tab algn="l" pos="6450120"/>
                <a:tab algn="l" pos="7364520"/>
                <a:tab algn="l" pos="8278920"/>
                <a:tab algn="l" pos="9193320"/>
                <a:tab algn="l" pos="10107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ule for PROFNEX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878120"/>
                <a:tab algn="l" pos="2792520"/>
                <a:tab algn="l" pos="3706920"/>
                <a:tab algn="l" pos="4621320"/>
                <a:tab algn="l" pos="5535720"/>
                <a:tab algn="l" pos="6450120"/>
                <a:tab algn="l" pos="7364520"/>
                <a:tab algn="l" pos="8278920"/>
                <a:tab algn="l" pos="9193320"/>
                <a:tab algn="l" pos="10107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I input and ASI output for transport 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878120"/>
                <a:tab algn="l" pos="2792520"/>
                <a:tab algn="l" pos="3706920"/>
                <a:tab algn="l" pos="4621320"/>
                <a:tab algn="l" pos="5535720"/>
                <a:tab algn="l" pos="6450120"/>
                <a:tab algn="l" pos="7364520"/>
                <a:tab algn="l" pos="8278920"/>
                <a:tab algn="l" pos="9193320"/>
                <a:tab algn="l" pos="10107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thernet port for control (Web, SNM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878120"/>
                <a:tab algn="l" pos="2792520"/>
                <a:tab algn="l" pos="3706920"/>
                <a:tab algn="l" pos="4621320"/>
                <a:tab algn="l" pos="5535720"/>
                <a:tab algn="l" pos="6450120"/>
                <a:tab algn="l" pos="7364520"/>
                <a:tab algn="l" pos="8278920"/>
                <a:tab algn="l" pos="9193320"/>
                <a:tab algn="l" pos="10107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TE-118 support for movie and schedule down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878120"/>
                <a:tab algn="l" pos="2792520"/>
                <a:tab algn="l" pos="3706920"/>
                <a:tab algn="l" pos="4621320"/>
                <a:tab algn="l" pos="5535720"/>
                <a:tab algn="l" pos="6450120"/>
                <a:tab algn="l" pos="7364520"/>
                <a:tab algn="l" pos="8278920"/>
                <a:tab algn="l" pos="9193320"/>
                <a:tab algn="l" pos="10107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programs into the multi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878120"/>
                <a:tab algn="l" pos="2792520"/>
                <a:tab algn="l" pos="3706920"/>
                <a:tab algn="l" pos="4621320"/>
                <a:tab algn="l" pos="5535720"/>
                <a:tab algn="l" pos="6450120"/>
                <a:tab algn="l" pos="7364520"/>
                <a:tab algn="l" pos="8278920"/>
                <a:tab algn="l" pos="9193320"/>
                <a:tab algn="l" pos="10107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http://www.profitt.ru/IMAGES/profnext1.gif"/>
          <p:cNvPicPr/>
          <p:nvPr/>
        </p:nvPicPr>
        <p:blipFill>
          <a:blip r:embed="rId2"/>
          <a:stretch/>
        </p:blipFill>
        <p:spPr>
          <a:xfrm>
            <a:off x="971640" y="4011480"/>
            <a:ext cx="3384360" cy="6177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ward Splic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u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571760"/>
            <a:ext cx="822960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лайс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деры и декоде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мукс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Рисунок 4" descr="Tux.svg.png"/>
          <p:cNvPicPr/>
          <p:nvPr/>
        </p:nvPicPr>
        <p:blipFill>
          <a:blip r:embed="rId1"/>
          <a:stretch/>
        </p:blipFill>
        <p:spPr>
          <a:xfrm>
            <a:off x="6659640" y="1851120"/>
            <a:ext cx="108720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49184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ы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  <a:ea typeface="Roboto Condensed"/>
              </a:rPr>
              <a:t>Клиенты «СофтЛаб-НСК» на карте мир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084720" y="1419120"/>
            <a:ext cx="28800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4240" indent="-1742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Roboto Condensed"/>
              </a:rPr>
              <a:t>Наши решения для ТВ-вещани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Roboto Condensed"/>
              </a:rPr>
              <a:t>и телевизионного производства используют  более тысячи вещателей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Roboto Condensed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Roboto Condensed"/>
              </a:rPr>
              <a:t>в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  <a:ea typeface="Roboto Condensed"/>
              </a:rPr>
              <a:t>65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Roboto Condensed"/>
              </a:rPr>
              <a:t> странах мир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Roboto Condensed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4240" indent="-1742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Roboto Condensed"/>
              </a:rPr>
              <a:t>С нами сотрудничают  более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  <a:ea typeface="Roboto Condensed"/>
              </a:rPr>
              <a:t>50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Roboto Condensed"/>
              </a:rPr>
              <a:t> дилеров из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  <a:ea typeface="Roboto Condensed"/>
              </a:rPr>
              <a:t>32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Roboto Condensed"/>
              </a:rPr>
              <a:t> стран мира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Roboto Condensed"/>
              </a:rPr>
              <a:t>в том числе Китай, Индонезия, Гонконг, Индия, Венгрия, Республика Чехия, Румыния, Малайзия, Тайланд, Вьетнам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Roboto Condensed"/>
              </a:rPr>
              <a:t>и д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4" descr="\\SRV1\tmp\For_Natasha_A\From Tatiana\Карта новая на сайт АНГЛ и РУС\2020 Карта клиентов для Шадрина\WorldMapClientsFlagsOK-01.png"/>
          <p:cNvPicPr/>
          <p:nvPr/>
        </p:nvPicPr>
        <p:blipFill>
          <a:blip r:embed="rId1"/>
          <a:srcRect l="14092" t="7888" r="0" b="0"/>
          <a:stretch/>
        </p:blipFill>
        <p:spPr>
          <a:xfrm>
            <a:off x="250920" y="1281240"/>
            <a:ext cx="580068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ортивные тит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1224000" y="1779480"/>
            <a:ext cx="3048120" cy="17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" name="Прямоугольник 3"/>
          <p:cNvSpPr/>
          <p:nvPr/>
        </p:nvSpPr>
        <p:spPr>
          <a:xfrm>
            <a:off x="1422360" y="357984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скетбол 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F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6"/>
          <p:cNvSpPr/>
          <p:nvPr/>
        </p:nvSpPr>
        <p:spPr>
          <a:xfrm>
            <a:off x="5032440" y="3579840"/>
            <a:ext cx="270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скетбол 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4859280" y="1779480"/>
            <a:ext cx="3048120" cy="17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ортивные тит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224000" y="1779480"/>
            <a:ext cx="3048120" cy="17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" name="Прямоугольник 8"/>
          <p:cNvSpPr/>
          <p:nvPr/>
        </p:nvSpPr>
        <p:spPr>
          <a:xfrm>
            <a:off x="1443600" y="3579840"/>
            <a:ext cx="26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ейбол 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2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4859280" y="1779480"/>
            <a:ext cx="3048120" cy="17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6" name="Прямоугольник 10"/>
          <p:cNvSpPr/>
          <p:nvPr/>
        </p:nvSpPr>
        <p:spPr>
          <a:xfrm>
            <a:off x="5075640" y="3579840"/>
            <a:ext cx="261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ейбол «ВФВ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2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ортивные тит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8"/>
          <p:cNvSpPr/>
          <p:nvPr/>
        </p:nvSpPr>
        <p:spPr>
          <a:xfrm>
            <a:off x="1973880" y="357984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ное по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0"/>
          <p:cNvSpPr/>
          <p:nvPr/>
        </p:nvSpPr>
        <p:spPr>
          <a:xfrm>
            <a:off x="5926320" y="357984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кк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224000" y="1779480"/>
            <a:ext cx="3048120" cy="17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4859280" y="1779480"/>
            <a:ext cx="3048120" cy="17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DConfig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571760"/>
            <a:ext cx="641844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стройки видеовходов для плат FD722, FD788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ровень чёрного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ровень белого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амм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сыщен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3995640" y="2211480"/>
            <a:ext cx="47037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DConfig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1571760"/>
            <a:ext cx="569916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бавлена возможность передавать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CTE метки со входа на вых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116000" y="2716200"/>
            <a:ext cx="3233880" cy="2016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4211640" y="2467080"/>
            <a:ext cx="25401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DConfig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71760"/>
            <a:ext cx="8229600" cy="12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rvice -&gt; Show license info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рвис 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казать список лиценз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лонка «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d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3564000" y="2284560"/>
            <a:ext cx="5121360" cy="2260440"/>
          </a:xfrm>
          <a:prstGeom prst="rect">
            <a:avLst/>
          </a:prstGeom>
          <a:ln w="0">
            <a:noFill/>
          </a:ln>
        </p:spPr>
      </p:pic>
      <p:sp>
        <p:nvSpPr>
          <p:cNvPr id="82" name="Овал 4"/>
          <p:cNvSpPr/>
          <p:nvPr/>
        </p:nvSpPr>
        <p:spPr>
          <a:xfrm>
            <a:off x="7020000" y="2643120"/>
            <a:ext cx="216000" cy="144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5"/>
          <p:cNvSpPr/>
          <p:nvPr/>
        </p:nvSpPr>
        <p:spPr>
          <a:xfrm>
            <a:off x="7020000" y="3579840"/>
            <a:ext cx="216000" cy="144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7"/>
          <p:cNvSpPr/>
          <p:nvPr/>
        </p:nvSpPr>
        <p:spPr>
          <a:xfrm>
            <a:off x="3635280" y="2771640"/>
            <a:ext cx="289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ая соединительная линия 8"/>
          <p:cNvSpPr/>
          <p:nvPr/>
        </p:nvSpPr>
        <p:spPr>
          <a:xfrm>
            <a:off x="3635280" y="3724200"/>
            <a:ext cx="6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Air3 (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ово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1571760"/>
            <a:ext cx="793116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каз информации о параметрах SLIni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 всплывающих подсказк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бавлена кнопк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Параметры подсказк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грывать команды расписания по од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https://1.bp.blogspot.com/-xhX1_N9qKHc/X2MajKERJZI/AAAAAAAABWs/wNBKxfSHb0Ijrffe_6r6mkefuOC4RMI0QCLcBGAsYHQ/s526/slini.jpg"/>
          <p:cNvPicPr/>
          <p:nvPr/>
        </p:nvPicPr>
        <p:blipFill>
          <a:blip r:embed="rId1"/>
          <a:stretch/>
        </p:blipFill>
        <p:spPr>
          <a:xfrm>
            <a:off x="6156360" y="1695600"/>
            <a:ext cx="2504880" cy="876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4140360" y="2643120"/>
            <a:ext cx="1439640" cy="1409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3"/>
          <a:stretch/>
        </p:blipFill>
        <p:spPr>
          <a:xfrm>
            <a:off x="6948360" y="3867120"/>
            <a:ext cx="54468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5T11:23:11Z</dcterms:created>
  <dc:creator>Igor G. Tarancev</dc:creator>
  <dc:description/>
  <dc:language>en-US</dc:language>
  <cp:lastModifiedBy>Igor G. Tarancev</cp:lastModifiedBy>
  <dcterms:modified xsi:type="dcterms:W3CDTF">2022-03-10T14:25:43Z</dcterms:modified>
  <cp:revision>227</cp:revision>
  <dc:subject/>
  <dc:title>Слайд 1</dc:title>
</cp:coreProperties>
</file>