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0947-5503-4E68-AC44-FB9817B90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B47-F4CA-41B1-A987-BB5AE2EA0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7F0D-E105-42CF-B0F9-A0CE2D1F8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B92-F5A6-44CC-A005-8019326106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196-64BF-48CF-8729-1FA75A999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плеер с облегчённым функционалом для решения задачи «вырезки» рекламных блоков в соответствии с новыми поправками в закон о рекламе в Республике Казах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B5B4-672A-44AA-9AE1-85FDDDA53F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резка» рекламы может происходить как в ручном режиме (по действию оператора эфира, по внешнему GPI-событию), так и в автоматическом (по различным меткам - DTMF, SCTE35, VITC, звуковая или видео отбивка и т.д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1EDC-2D83-43B6-A018-7E7E31E890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использованы различные типы сигналов - IP, ASI, CVBS, YUV, YC, RGB, SD SDI, HD S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3B3E-150B-475C-8435-D4B6544FAB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приложение SLAdsRemover будет позволять работать с несколькими каналами «вырезки»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каналов, которые можно обработать на одном видеосервере зависит от производительности системы, типа сжатия сигнала (AVC/MPEG2 для IP/ASI потоков) и его разрешения (SD/H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работает по архитектуре «клиент-сервер». Это означает, что закрытие окна программы не прерывает процесс замещения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807-EE68-4E09-B964-DA00CDC95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ка работы прилож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начало рекламного блока (по команде оператора или по метк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ускается воспроизведение ролика-видеозаставки (в зацикленном режиме) или статичной картинки (графический файл-заста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на ретранслируемый сигнал может происходить по команде оператора, по метке или по истечению предварительно заданного промежутка времени (таймау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DB1-099C-456B-B95B-0241F84568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автоматизации «вырезки» рекламы по меткам без участия оператора эфира может быть использовано ПО AutoDetect. Для определения начала и конца рекламного блока могут использоваться следующие типы мето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фрагменты заставок рекламного блока (джинг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фрагменты заставок рекламного бл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«23-й строки» (специальный сигнал в первой видимой строке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VITC (в видимой части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транспортном потоке (по стандарту SCTE 3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, передаваемые в телетексте (X31 Teletext, Packet-3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вашем телеканале отсутствуют, например, DTMF-метки, то всегда можно использовать аудио- или видеофрагмент рекламной заста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ижайшем будущем планируется добавить способ распознавания по логотипу (отсутствие на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1C9-A9AD-44DE-9F63-E23D63ED4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бщей лицензии плагина SLAdsRemover для одного канала входят следующие лиценз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 «вырезку» рекламы (работа приложения SLAdsRemov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AutoDetect (вырезка по различным метка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кодер (формирование IP-пото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использование плагина SLIpInputLayer (более удобный способ программного предпросмотра входного потока, возможность записи входного IP-потока в файл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0710-F573-4BBB-A526-58188E482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D20-4C49-447E-AFCB-D8809BD0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FBE-3C74-4C53-843A-F3A94151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767-A1A3-44B3-885D-67E140C6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45E-7F3C-48A9-BC3D-13D01ACF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33A-4ABF-4EF4-9F02-3DF681D4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5DA-37D9-47F6-B951-3873EAB5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69D-CBAA-48C2-A842-3B74589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66E-CC41-4D46-AF50-5BA167D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DEA-A3A3-404A-8CE2-DE7CDF9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6D6-01BA-4D5E-BB8F-D2F7336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6C4-B276-44D3-8F88-BD0F86E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56C-CCCA-4B1F-BF28-B5BEE87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25B-86A9-496E-B198-D67FD125C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резка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каналов в одном ок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олонок для показа кан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актное представление каналов – только необходимая 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ное представление каналов – полная информация о работ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19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ы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егченное решение для вырезки рекламных блоков в соответствии с поправками в закон о рекла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нескольких каналов на одном серве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хитектура клиент-серве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вручную либо в автоматическом режи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ка всех типов телевизионных сигна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вление вырез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ную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команде оператора эфи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внешнему GPI-событ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втоматическом режиме по различным метка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TMF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CTE35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VITC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вуковая отбивк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део отби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иг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ешение сигна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ческ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VBS, YUV, YC,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ов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P, 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кан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аналов вырезки на одном серв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каналов зависит от производительности системы, типа сжатия и разрешения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хитектура клиент-сервер: закрытие окна программы не прерывает замещение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ик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 в рекла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 видеозаставки или статичной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из реклам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истечению таймау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Det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автоматизации вырезки могут использоваться следующие типы мет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уковые 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«23-й строк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VI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SCTE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телетексте (X31 Teletext, Packet-3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лицензи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бственно вырезку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О AutoDe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дирование IP-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граммный предпросмотр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ного 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зможность записи вход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IP-потока в фай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984560" cy="2775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3635280" y="4365720"/>
            <a:ext cx="50659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7T10:13:33Z</dcterms:created>
  <dc:creator>Igor G. Tarancev</dc:creator>
  <dc:description/>
  <dc:language>en-US</dc:language>
  <cp:lastModifiedBy>Igor G. Tarancev</cp:lastModifiedBy>
  <dcterms:modified xsi:type="dcterms:W3CDTF">2022-03-10T14:09:57Z</dcterms:modified>
  <cp:revision>18</cp:revision>
  <dc:subject/>
  <dc:title>SLAdsRemover</dc:title>
</cp:coreProperties>
</file>